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4502-842E-4906-B4DD-E0251C637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safutures.com/sugartrad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lm.nih.gov/medlineplus/ency/imagepages/8883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Pancreas is mostly an exocrine gland (digestive enzymes to the intestines), but 2% is the islets of Langerhans, endocrine cell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health.howstuffworks.com/diseases-conditions/diabetes/diabetes1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ohone09.wikispaces.com/Group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images.yourdictionary.com/adrenal-gland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tanford.edu/group/hopes/cgi-bin/wordpress/2010/06/stress-and-huntingtons-diseas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olumbiancentre.org/?p=31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ocietynews.org/diabet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83A-1FA4-4DC0-9D66-7D46864A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F56-5CE6-4A7D-BA3D-24472202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1653-975D-4CA6-8F84-DC27C04C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DBA-3814-4BB9-86D5-F1FABBF2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E7B-BC6C-41DA-955B-E103C00E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A79-5B89-49D8-ADE1-3EEBCF4E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1EC-2F4D-4254-B8B4-BDB69092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5B1-0DEF-446D-9B77-F4A9AEC9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B37-EC40-4DD7-B61E-EBFD94F3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505-2F31-4221-8CCE-8572C75C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7BB-94BD-41E1-8ECE-6F9FB04B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818-AC7D-447B-80BF-FB10BA65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1A17-756A-4744-882F-B5D46684F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gulating Blood Sugar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ype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b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 cells in pancreas cannot produce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s in inf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is daily administration of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ype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b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production of insulin and/or the inability to bind to its receptors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develops in adulthood, strong genetic link &amp; association with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is controlled diet &amp; exercise and sometimes oral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station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b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in some women during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crease risk of future development of diabetes in mother and/or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ets of Langerh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ells produ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cells produ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4680" y="1981080"/>
            <a:ext cx="319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04840" y="609480"/>
            <a:ext cx="513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cortex produces 3 types of hormones, including glucocortic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corticoids such as cortisol help to raise blood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97600" y="1981080"/>
            <a:ext cx="291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lood glucose level is too high it can cause a condition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glyc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lood glucose level is too low it can cause a condition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glyc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glycemia due to problems with insulin production and/o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 symptoms of diabe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 ur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h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ppet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6:29:18Z</dcterms:created>
  <dc:creator>rubina khan</dc:creator>
  <dc:description/>
  <dc:language>en-US</dc:language>
  <cp:lastModifiedBy>rubina khan</cp:lastModifiedBy>
  <dcterms:modified xsi:type="dcterms:W3CDTF">2013-01-09T04:17:01Z</dcterms:modified>
  <cp:revision>107</cp:revision>
  <dc:subject/>
  <dc:title>Hormones that Affect Blood Sugar  &amp; Reproductive Hormones</dc:title>
</cp:coreProperties>
</file>